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3.jpeg" ContentType="image/jpeg"/>
  <Override PartName="/ppt/media/image37.jpeg" ContentType="image/jpeg"/>
  <Override PartName="/ppt/media/image30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3D06-3595-4BA2-A4D9-60D19A05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1D36-E12A-40F4-BC5B-92727EFF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DC0C-7276-4ED2-B8AE-C87AF085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8592-4E72-4FD6-8116-D4509404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D06A-B6AB-4C40-94D7-EF359543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AF3-DF32-42E5-8737-2A3E5874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7BD6-C262-423B-A051-FB167A30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6B1-B6A4-4774-8AA9-B4A664ABD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AC0C-70D8-459F-922D-65A2BB07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1B1D-C154-4BA2-A4E3-A33EA67F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5C43-E0F3-48CD-B165-C6C99800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0AA-1DD8-4BB1-8B7E-47584C6A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2FB7-520F-4487-B7D2-6C10F4AD4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fr.wikipedia.org/wiki/Eug&#232;ne_Delacroix" TargetMode="External"/><Relationship Id="rId3" Type="http://schemas.openxmlformats.org/officeDocument/2006/relationships/hyperlink" Target="http://fr.wikipedia.org/wiki/Eug&#232;ne_Delacroix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8.jpeg"/><Relationship Id="rId3" Type="http://schemas.openxmlformats.org/officeDocument/2006/relationships/hyperlink" Target="http://en.wikipedia.org/wiki/File:Georges_bizet.jpg" TargetMode="External"/><Relationship Id="rId4" Type="http://schemas.openxmlformats.org/officeDocument/2006/relationships/image" Target="../media/image39.jpeg"/><Relationship Id="rId5" Type="http://schemas.openxmlformats.org/officeDocument/2006/relationships/hyperlink" Target="http://en.wikipedia.org/wiki/File:Hector_Berlioz_Crop.jpg" TargetMode="External"/><Relationship Id="rId6" Type="http://schemas.openxmlformats.org/officeDocument/2006/relationships/image" Target="../media/image40.jpeg"/><Relationship Id="rId7" Type="http://schemas.openxmlformats.org/officeDocument/2006/relationships/hyperlink" Target="http://en.wikipedia.org/wiki/File:Claude_Debussy_ca_1908,_foto_av_F&#233;lix_Nadar.jpg" TargetMode="External"/><Relationship Id="rId8" Type="http://schemas.openxmlformats.org/officeDocument/2006/relationships/image" Target="../media/image41.jpeg"/><Relationship Id="rId9" Type="http://schemas.openxmlformats.org/officeDocument/2006/relationships/hyperlink" Target="http://en.wikipedia.org/wiki/File:Jacques_offenbach.jpg" TargetMode="External"/><Relationship Id="rId10" Type="http://schemas.openxmlformats.org/officeDocument/2006/relationships/image" Target="../media/image42.jpeg"/><Relationship Id="rId11" Type="http://schemas.openxmlformats.org/officeDocument/2006/relationships/image" Target="../media/image43.jpeg"/><Relationship Id="rId1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Jean-Honor&#233;_Fragonard" TargetMode="External"/><Relationship Id="rId2" Type="http://schemas.openxmlformats.org/officeDocument/2006/relationships/hyperlink" Target="http://forum.wordreference.com/showthread.php?t=182323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hyperlink" Target="http://en.wikipedia.org/wiki/Antoine_Watteau" TargetMode="External"/><Relationship Id="rId5" Type="http://schemas.openxmlformats.org/officeDocument/2006/relationships/image" Target="../media/image8.jpeg"/><Relationship Id="rId6" Type="http://schemas.openxmlformats.org/officeDocument/2006/relationships/hyperlink" Target="http://en.wikipedia.org/wiki/Jean-Honor&#233;_Fragonard" TargetMode="External"/><Relationship Id="rId7" Type="http://schemas.openxmlformats.org/officeDocument/2006/relationships/hyperlink" Target="http://en.wikipedia.org/wiki/Jean-Honor&#233;_Fragonard" TargetMode="External"/><Relationship Id="rId8" Type="http://schemas.openxmlformats.org/officeDocument/2006/relationships/hyperlink" Target="http://en.wikipedia.org/wiki/Jean-Honor&#233;_Fragonard" TargetMode="External"/><Relationship Id="rId9" Type="http://schemas.openxmlformats.org/officeDocument/2006/relationships/image" Target="../media/image9.jpeg"/><Relationship Id="rId10" Type="http://schemas.openxmlformats.org/officeDocument/2006/relationships/hyperlink" Target="http://en.wikipedia.org/wiki/Eug&#232;ne_Delacroix" TargetMode="External"/><Relationship Id="rId11" Type="http://schemas.openxmlformats.org/officeDocument/2006/relationships/hyperlink" Target="http://en.wikipedia.org/wiki/Eug&#232;ne_Delacroix" TargetMode="External"/><Relationship Id="rId12" Type="http://schemas.openxmlformats.org/officeDocument/2006/relationships/image" Target="../media/image10.jpeg"/><Relationship Id="rId13" Type="http://schemas.openxmlformats.org/officeDocument/2006/relationships/hyperlink" Target="http://en.wikipedia.org/wiki/Claude_Monet" TargetMode="External"/><Relationship Id="rId14" Type="http://schemas.openxmlformats.org/officeDocument/2006/relationships/hyperlink" Target="http://ro.wikipedia.org/wiki/Fi&#537;ier:Paul_cezanne_1861.jpg" TargetMode="External"/><Relationship Id="rId15" Type="http://schemas.openxmlformats.org/officeDocument/2006/relationships/image" Target="../media/image11.jpeg"/><Relationship Id="rId16" Type="http://schemas.openxmlformats.org/officeDocument/2006/relationships/image" Target="../media/image12.jpeg"/><Relationship Id="rId17" Type="http://schemas.openxmlformats.org/officeDocument/2006/relationships/hyperlink" Target="http://en.wikipedia.org/wiki/Pierre-Auguste_Renoir" TargetMode="External"/><Relationship Id="rId18" Type="http://schemas.openxmlformats.org/officeDocument/2006/relationships/hyperlink" Target="http://en.wikipedia.org/wiki/Pierre-Auguste_Renoir" TargetMode="External"/><Relationship Id="rId19" Type="http://schemas.openxmlformats.org/officeDocument/2006/relationships/hyperlink" Target="http://en.wikipedia.org/wiki/Pierre-Auguste_Renoir" TargetMode="External"/><Relationship Id="rId2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file://upload.wikimedia.org/wikipedia/commons/c/cb/Paul_Gauguin_112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hyperlink" Target="http://en.wikipedia.org/wiki/Honor&#233;_de_Balzac" TargetMode="External"/><Relationship Id="rId5" Type="http://schemas.openxmlformats.org/officeDocument/2006/relationships/hyperlink" Target="http://en.wikipedia.org/wiki/Honor&#233;_de_Balzac" TargetMode="External"/><Relationship Id="rId6" Type="http://schemas.openxmlformats.org/officeDocument/2006/relationships/hyperlink" Target="http://en.wikipedia.org/wiki/File:Baudelaire_crop.jpg" TargetMode="External"/><Relationship Id="rId7" Type="http://schemas.openxmlformats.org/officeDocument/2006/relationships/image" Target="../media/image18.jpeg"/><Relationship Id="rId8" Type="http://schemas.openxmlformats.org/officeDocument/2006/relationships/hyperlink" Target="file://upload.wikimedia.org/wikipedia/commons/0/03/Dumas_pere_print_.jpg" TargetMode="External"/><Relationship Id="rId9" Type="http://schemas.openxmlformats.org/officeDocument/2006/relationships/image" Target="../media/image19.jpeg"/><Relationship Id="rId10" Type="http://schemas.openxmlformats.org/officeDocument/2006/relationships/hyperlink" Target="http://en.wikipedia.org/wiki/File:Victor_Hugo_circa_1880.jpg" TargetMode="External"/><Relationship Id="rId11" Type="http://schemas.openxmlformats.org/officeDocument/2006/relationships/image" Target="../media/image20.jpeg"/><Relationship Id="rId12" Type="http://schemas.openxmlformats.org/officeDocument/2006/relationships/hyperlink" Target="http://en.wikipedia.org/wiki/File:Cocteau_1923.jpg" TargetMode="External"/><Relationship Id="rId13" Type="http://schemas.openxmlformats.org/officeDocument/2006/relationships/image" Target="../media/image21.jpe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File:Jean_de_La_Fontaine.PNG" TargetMode="External"/><Relationship Id="rId3" Type="http://schemas.openxmlformats.org/officeDocument/2006/relationships/image" Target="../media/image22.png"/><Relationship Id="rId4" Type="http://schemas.openxmlformats.org/officeDocument/2006/relationships/hyperlink" Target="http://en.wikipedia.org/wiki/File:Hector_Malot.jpg" TargetMode="External"/><Relationship Id="rId5" Type="http://schemas.openxmlformats.org/officeDocument/2006/relationships/image" Target="../media/image23.jpeg"/><Relationship Id="rId6" Type="http://schemas.openxmlformats.org/officeDocument/2006/relationships/hyperlink" Target="file://upload.wikimedia.org/wikipedia/commons/f/fe/Moli&#232;re_-_Nicolas_Mignard_%281658%29.jpg" TargetMode="External"/><Relationship Id="rId7" Type="http://schemas.openxmlformats.org/officeDocument/2006/relationships/image" Target="../media/image24.jpeg"/><Relationship Id="rId8" Type="http://schemas.openxmlformats.org/officeDocument/2006/relationships/hyperlink" Target="http://en.wikipedia.org/wiki/File:ChPerrault.jpg" TargetMode="External"/><Relationship Id="rId9" Type="http://schemas.openxmlformats.org/officeDocument/2006/relationships/image" Target="../media/image25.jpeg"/><Relationship Id="rId10" Type="http://schemas.openxmlformats.org/officeDocument/2006/relationships/hyperlink" Target="http://en.wikipedia.org/wiki/File:Marcel_Proust_1900-2.jpg" TargetMode="External"/><Relationship Id="rId11" Type="http://schemas.openxmlformats.org/officeDocument/2006/relationships/image" Target="../media/image26.jpeg"/><Relationship Id="rId12" Type="http://schemas.openxmlformats.org/officeDocument/2006/relationships/hyperlink" Target="http://en.wikipedia.org/wiki/File:Francois_Rabelais_-_Portrait.jpg" TargetMode="External"/><Relationship Id="rId13" Type="http://schemas.openxmlformats.org/officeDocument/2006/relationships/image" Target="../media/image27.jpeg"/><Relationship Id="rId1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n.wikipedia.org/wiki/File:11exupery-inline1-500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en.wikipedia.org/wiki/File:Stendhal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en.wikipedia.org/wiki/File:Jules_Verne.jpg" TargetMode="External"/><Relationship Id="rId7" Type="http://schemas.openxmlformats.org/officeDocument/2006/relationships/image" Target="../media/image30.jpeg"/><Relationship Id="rId8" Type="http://schemas.openxmlformats.org/officeDocument/2006/relationships/hyperlink" Target="http://en.wikipedia.org/wiki/File:Albert_Camus,_gagnant_de_prix_Nobel,_portrait_en_buste,_pos&#233;_au_bureau,_faisant_face_&#224;_gauche,_cigarette_de_tabagisme.jpg" TargetMode="External"/><Relationship Id="rId9" Type="http://schemas.openxmlformats.org/officeDocument/2006/relationships/image" Target="../media/image31.jpeg"/><Relationship Id="rId10" Type="http://schemas.openxmlformats.org/officeDocument/2006/relationships/hyperlink" Target="http://en.wikipedia.org/wiki/File:Frans_Hals_-_Portret_van_Ren&#233;_Descartes.jpg" TargetMode="External"/><Relationship Id="rId11" Type="http://schemas.openxmlformats.org/officeDocument/2006/relationships/image" Target="../media/image32.jpeg"/><Relationship Id="rId12" Type="http://schemas.openxmlformats.org/officeDocument/2006/relationships/hyperlink" Target="http://en.wikipedia.org/wiki/File:Jean-Paul_Sartre_FP.JPG" TargetMode="External"/><Relationship Id="rId13" Type="http://schemas.openxmlformats.org/officeDocument/2006/relationships/image" Target="../media/image33.jpe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391520" y="5943600"/>
            <a:ext cx="2133360" cy="13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w Cen MT"/>
              </a:rPr>
              <a:t>La Liberté guidant le peuple</a:t>
            </a:r>
            <a:r>
              <a:rPr b="1" lang="en-US" sz="1600" spc="-1" strike="noStrike">
                <a:solidFill>
                  <a:srgbClr val="ffffff"/>
                </a:solidFill>
                <a:latin typeface="Tw Cen MT"/>
              </a:rPr>
              <a:t> d'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w Cen MT"/>
                <a:hlinkClick r:id="rId2"/>
              </a:rPr>
              <a:t>Eugène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Tw Cen MT"/>
                <a:hlinkClick r:id="rId3"/>
              </a:rPr>
              <a:t> Delacroi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09480" y="1600200"/>
            <a:ext cx="8124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One Stroke Script LET"/>
              </a:rPr>
              <a:t>Personnalités marquantes de l'histoire français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One Stroke Script LET"/>
              <a:ea typeface="One Stroke Script LE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76520" y="304920"/>
            <a:ext cx="6019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One Stroke Script LET"/>
              </a:rPr>
              <a:t>Les trois emblèmes du siècle des Lumières avaient a la base de leur ecriture le </a:t>
            </a:r>
            <a:r>
              <a:rPr b="0" lang="en-US" sz="2400" spc="-1" strike="noStrike">
                <a:solidFill>
                  <a:srgbClr val="333399"/>
                </a:solidFill>
                <a:latin typeface="One Stroke Script LET"/>
              </a:rPr>
              <a:t>concept de la raison selon laquelle on satisfaire les idéaux de tolérance et de liberté.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2764080" cy="3200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2743200"/>
            <a:ext cx="2413080" cy="3200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038480" y="5181480"/>
            <a:ext cx="2057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181480"/>
            <a:ext cx="22100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Jacques Rousseau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712-17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5486400"/>
            <a:ext cx="251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Voltai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94-177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172200" y="2743200"/>
            <a:ext cx="2120760" cy="3200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172200" y="5181480"/>
            <a:ext cx="1828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Montesqu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89-175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 rot="5400000">
            <a:off x="5976720" y="3928680"/>
            <a:ext cx="487692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a musiqu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3962520"/>
            <a:ext cx="243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La France nous a fourni une foule de compositeurs classiques, qui se distinguent en particulier dans le 19ème siè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733920" y="220968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657600" y="3276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Composi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352680"/>
            <a:ext cx="1905120" cy="2629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371600" y="55627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Georges Bize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8-18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495680" y="3809880"/>
            <a:ext cx="1638360" cy="25146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495680" y="586728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Hector Berlioz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03-186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781680" y="3124080"/>
            <a:ext cx="1814760" cy="251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81680" y="48769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laude Debussy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62-19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943600" y="228600"/>
            <a:ext cx="1792440" cy="2362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019920" y="1752480"/>
            <a:ext cx="152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acques Offenbach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 (1819-18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1"/>
          <a:stretch/>
        </p:blipFill>
        <p:spPr>
          <a:xfrm>
            <a:off x="1447920" y="228600"/>
            <a:ext cx="1904760" cy="25336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7920" y="228600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aurice Ravel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75-19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 rot="5400000">
            <a:off x="-1414800" y="2709720"/>
            <a:ext cx="51818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es hér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148" name=""/>
          <p:cNvSpPr/>
          <p:nvPr/>
        </p:nvSpPr>
        <p:spPr>
          <a:xfrm>
            <a:off x="8153280" y="646128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ne Stroke Script LET"/>
              </a:rPr>
              <a:t>Bast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Fișier:Ingres coronation charles vii.jpg"/>
          <p:cNvPicPr/>
          <p:nvPr/>
        </p:nvPicPr>
        <p:blipFill>
          <a:blip r:embed="rId1"/>
          <a:stretch/>
        </p:blipFill>
        <p:spPr>
          <a:xfrm>
            <a:off x="609480" y="457200"/>
            <a:ext cx="4257720" cy="5715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486400" y="1295280"/>
            <a:ext cx="274320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One Stroke Script LET"/>
              </a:rPr>
              <a:t>Jeanne d’Arc </a:t>
            </a:r>
            <a:r>
              <a:rPr b="0" lang="en-US" sz="2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est une figure emblématique de l‘histoire de France, connue sous les surnom de « Pucelle d'Orléans »; elle avait des ‘visions’ qui concernaient le guerre de 100 ans. Elle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a été brûlée sur le bûc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File:Louis XIV of France.jpg"/>
          <p:cNvPicPr/>
          <p:nvPr/>
        </p:nvPicPr>
        <p:blipFill>
          <a:blip r:embed="rId1"/>
          <a:stretch/>
        </p:blipFill>
        <p:spPr>
          <a:xfrm>
            <a:off x="4419720" y="533520"/>
            <a:ext cx="4019400" cy="5715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1447920"/>
            <a:ext cx="312408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One Stroke Script LET"/>
              </a:rPr>
              <a:t>Louis XIV de France</a:t>
            </a:r>
            <a:r>
              <a:rPr b="0" lang="en-US" sz="1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dit le Roi-Soleil,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 a gouverné la France pendant 75 ans (le plus long règne dans l'histoire européenne). Il est celui qui dit ‘L’Etat, c’est moi!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0" rIns="507600" tIns="-489960" bIns="-48996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File:Napoleon in His Study.jpg"/>
          <p:cNvPicPr/>
          <p:nvPr/>
        </p:nvPicPr>
        <p:blipFill>
          <a:blip r:embed="rId2"/>
          <a:stretch/>
        </p:blipFill>
        <p:spPr>
          <a:xfrm>
            <a:off x="533520" y="533520"/>
            <a:ext cx="344808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257800" y="20574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-360" y="0"/>
            <a:ext cx="1080720" cy="12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960" rIns="507960" tIns="490320" bIns="49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00600" y="1676520"/>
            <a:ext cx="304812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One Stroke Script LET"/>
              </a:rPr>
              <a:t>Napoléon Bonaparte</a:t>
            </a:r>
            <a:r>
              <a:rPr b="0" lang="fr-FR" sz="18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a été le deuxième empereur de la France (le premier était Charlemagne), qui s’est monté</a:t>
            </a:r>
            <a:r>
              <a:rPr b="0" lang="fr-FR" sz="32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sur le trône à la fin de la Révolution française.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1143000" y="1752480"/>
            <a:ext cx="6934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One Stroke Script LET"/>
              </a:rPr>
              <a:t>Merci pour votre attention !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One Stroke Script LET"/>
              <a:ea typeface="One Stroke Script LET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666880" y="3124080"/>
            <a:ext cx="3886200" cy="28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716292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9999"/>
                </a:solidFill>
                <a:latin typeface="One Stroke Script LET"/>
              </a:rPr>
              <a:t>L'histoire française est</a:t>
            </a:r>
            <a:r>
              <a:rPr b="0" lang="en-US" sz="2800" spc="-1" strike="noStrike">
                <a:solidFill>
                  <a:srgbClr val="009999"/>
                </a:solidFill>
                <a:latin typeface="One Stroke Script LET"/>
              </a:rPr>
              <a:t> parsem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One Stroke Script LET"/>
                <a:hlinkClick r:id="rId1"/>
              </a:rPr>
              <a:t>é</a:t>
            </a:r>
            <a:r>
              <a:rPr b="0" lang="en-US" sz="2800" spc="-1" strike="noStrike">
                <a:solidFill>
                  <a:srgbClr val="009999"/>
                </a:solidFill>
                <a:latin typeface="One Stroke Script LET"/>
              </a:rPr>
              <a:t> de personnalités remarquables qui ont laissé leurs empreintes en </a:t>
            </a:r>
            <a:r>
              <a:rPr b="0" lang="en" sz="2800" spc="-1" strike="noStrike" u="sng">
                <a:solidFill>
                  <a:srgbClr val="009999"/>
                </a:solidFill>
                <a:uFillTx/>
                <a:latin typeface="One Stroke Script LET"/>
                <a:hlinkClick r:id="rId2"/>
              </a:rPr>
              <a:t>même temps </a:t>
            </a:r>
            <a:r>
              <a:rPr b="0" lang="en" sz="2800" spc="-1" strike="noStrike">
                <a:solidFill>
                  <a:srgbClr val="009999"/>
                </a:solidFill>
                <a:latin typeface="One Stroke Script LET"/>
              </a:rPr>
              <a:t>dans l’histoire autochtone et universa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3048120"/>
            <a:ext cx="9144000" cy="4486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514600" y="137160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009999"/>
                </a:solidFill>
                <a:latin typeface="One Stroke Script LET"/>
              </a:rPr>
              <a:t>Au cours du temps, beaucoup de Fran</a:t>
            </a:r>
            <a:r>
              <a:rPr b="0" lang="fr-FR" sz="2400" spc="-1" strike="noStrike">
                <a:solidFill>
                  <a:srgbClr val="009999"/>
                </a:solidFill>
                <a:latin typeface="One Stroke Script LET"/>
              </a:rPr>
              <a:t>ç</a:t>
            </a:r>
            <a:r>
              <a:rPr b="0" lang="en" sz="2400" spc="-1" strike="noStrike">
                <a:solidFill>
                  <a:srgbClr val="009999"/>
                </a:solidFill>
                <a:latin typeface="One Stroke Script LET"/>
              </a:rPr>
              <a:t>aises </a:t>
            </a:r>
            <a:r>
              <a:rPr b="0" lang="fr-FR" sz="2400" spc="-1" strike="noStrike">
                <a:solidFill>
                  <a:srgbClr val="009999"/>
                </a:solidFill>
                <a:latin typeface="One Stroke Script LET"/>
              </a:rPr>
              <a:t>ont été impliqués</a:t>
            </a:r>
            <a:r>
              <a:rPr b="0" lang="en-US" sz="2400" spc="-1" strike="noStrike">
                <a:solidFill>
                  <a:srgbClr val="009999"/>
                </a:solidFill>
                <a:latin typeface="One Stroke Script LET"/>
              </a:rPr>
              <a:t> dans domaines comment l’art (peinture, musique, théâtre, sculpture), la politique ou la philosophie, et ils se sont notées par leur contribution dans la culture glob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0"/>
            <a:ext cx="7315200" cy="6686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 rot="5400000">
            <a:off x="-2533680" y="3066840"/>
            <a:ext cx="63244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a pein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505320" y="2895480"/>
            <a:ext cx="1828800" cy="1295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91120" y="289548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ne Stroke Script LET"/>
              </a:rPr>
              <a:t>Arti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163520" y="380880"/>
            <a:ext cx="1708200" cy="2286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28800" y="1828800"/>
            <a:ext cx="18288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4"/>
              </a:rPr>
              <a:t>Antoine Watteau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One Stroke Script LET"/>
              </a:rPr>
              <a:t> (1684–172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50800" y="2971800"/>
            <a:ext cx="1701720" cy="225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2120" y="4343400"/>
            <a:ext cx="1828800" cy="24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6"/>
              </a:rPr>
              <a:t>Jean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7"/>
              </a:rPr>
              <a:t>Honoré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8"/>
              </a:rPr>
              <a:t> Fragonard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32–1806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9"/>
          <a:stretch/>
        </p:blipFill>
        <p:spPr>
          <a:xfrm>
            <a:off x="2895480" y="4343400"/>
            <a:ext cx="1548000" cy="2124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33920" y="5257800"/>
            <a:ext cx="1371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5670720"/>
            <a:ext cx="175284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0"/>
              </a:rPr>
              <a:t>Eugèn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1"/>
              </a:rPr>
              <a:t> Delacroix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98–1863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2"/>
          <a:stretch/>
        </p:blipFill>
        <p:spPr>
          <a:xfrm>
            <a:off x="5562720" y="335268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5486400"/>
            <a:ext cx="20574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3"/>
              </a:rPr>
              <a:t>Claude Mone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One Stroke Script LET"/>
              </a:rPr>
              <a:t> (1840–19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3581280" y="152280"/>
            <a:ext cx="1528920" cy="2224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58128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Paul Cézan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9-19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6"/>
          <a:stretch/>
        </p:blipFill>
        <p:spPr>
          <a:xfrm>
            <a:off x="5834160" y="304920"/>
            <a:ext cx="1976400" cy="2438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791320" y="1600200"/>
            <a:ext cx="15238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7"/>
              </a:rPr>
              <a:t>Pierre-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8"/>
              </a:rPr>
              <a:t>Auguste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19"/>
              </a:rPr>
              <a:t> Renoir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41–19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0560" cy="51818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Fișier:Paul Gauguin 112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8320" y="457200"/>
            <a:ext cx="4228920" cy="4572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914400" y="525780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One Stroke Script LET"/>
              </a:rPr>
              <a:t>Van Gogh et Paul Gauguin étaient des amis, et se sont installés dans le sud de la France. Ici, ils ont eu une altercation, qui a conduit à la fameuse attaque de démence de Van Gogh, après quoi il a coupé son oreil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 rot="5400000">
            <a:off x="-2557800" y="3243240"/>
            <a:ext cx="609588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One Stroke Script LET"/>
              </a:rPr>
              <a:t>Les auteu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One Stroke Script LET"/>
              <a:ea typeface="One Stroke Script LET"/>
            </a:endParaRPr>
          </a:p>
        </p:txBody>
      </p:sp>
      <p:sp>
        <p:nvSpPr>
          <p:cNvPr id="75" name=""/>
          <p:cNvSpPr/>
          <p:nvPr/>
        </p:nvSpPr>
        <p:spPr>
          <a:xfrm>
            <a:off x="4648320" y="5410080"/>
            <a:ext cx="449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343400" y="6035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ffffff"/>
                </a:solidFill>
                <a:latin typeface="One Stroke Script LET"/>
              </a:rPr>
              <a:t>La majorité des curentes littéraires sont nées en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3657600" y="1523880"/>
            <a:ext cx="1933560" cy="1835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9880" y="1523880"/>
            <a:ext cx="1905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La literatu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française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est bien connait par sa </a:t>
            </a:r>
            <a:r>
              <a:rPr b="0" lang="fr-FR" sz="2400" spc="-1" strike="noStrike">
                <a:solidFill>
                  <a:srgbClr val="000000"/>
                </a:solidFill>
                <a:latin typeface="One Stroke Script LET"/>
              </a:rPr>
              <a:t>divers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1219320" y="228600"/>
            <a:ext cx="1904760" cy="2419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43000" y="2209680"/>
            <a:ext cx="20574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4"/>
              </a:rPr>
              <a:t>Honoré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  <a:hlinkClick r:id="rId5"/>
              </a:rPr>
              <a:t> de Balzac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799-18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9480" y="3200400"/>
            <a:ext cx="1830600" cy="2438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33520" y="487692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Baudelai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21-186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File:Dumas pere print 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8120" y="3886200"/>
            <a:ext cx="1962000" cy="2414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048120" y="34290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802-187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lexandre D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867280" y="3581280"/>
            <a:ext cx="190512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867280" y="5486400"/>
            <a:ext cx="175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Victor Hugo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02-188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6324480" y="380880"/>
            <a:ext cx="2095560" cy="2610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29400" y="25146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Cocteau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89-196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2320" y="457200"/>
            <a:ext cx="1976760" cy="252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2133720"/>
            <a:ext cx="1676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 de La Fontai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621-169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90760" y="762120"/>
            <a:ext cx="1928880" cy="26575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505320" y="304812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Hector Malo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30-19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1440" y="328608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01440" y="328608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File:Molière - Nicolas Mignard (1658)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46920" y="533520"/>
            <a:ext cx="1993680" cy="2547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086600" y="259092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olière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622-167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04920" y="3505320"/>
            <a:ext cx="1947600" cy="281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586728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Charles Perraul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628-17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997360" y="3809880"/>
            <a:ext cx="1738080" cy="2595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8120" y="6035760"/>
            <a:ext cx="1676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Marcel Proust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71-199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38680" y="3657600"/>
            <a:ext cx="209556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791320" y="5638680"/>
            <a:ext cx="1600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5791320"/>
            <a:ext cx="19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François Rabelai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494-1553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609480"/>
            <a:ext cx="1990800" cy="27432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762120" y="2514600"/>
            <a:ext cx="1752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ntoine de Saint-Exupéry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00-194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720" y="0"/>
            <a:ext cx="14112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6480" bIns="64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71800" y="304920"/>
            <a:ext cx="2095560" cy="27144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48120" y="259092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Stendhal 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(1783-18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638680" y="457200"/>
            <a:ext cx="2076480" cy="28954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638680" y="289548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ules Vern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828-19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762120" y="3733920"/>
            <a:ext cx="2095560" cy="2514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2120" y="586728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Albert Camu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13-196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3124080" y="3581280"/>
            <a:ext cx="2178000" cy="2667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00400" y="57913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René Descartes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596-16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562720" y="3886200"/>
            <a:ext cx="228600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486400" y="60357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One Stroke Script LET"/>
              </a:rPr>
              <a:t>Jean-Paul Sartre</a:t>
            </a:r>
            <a:r>
              <a:rPr b="0" lang="en-US" sz="2400" spc="-1" strike="noStrike">
                <a:solidFill>
                  <a:srgbClr val="000000"/>
                </a:solidFill>
                <a:latin typeface="One Stroke Script LET"/>
              </a:rPr>
              <a:t> (1905-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5T12:12:38Z</dcterms:created>
  <dc:creator>Ioana</dc:creator>
  <dc:description/>
  <dc:language>en-US</dc:language>
  <cp:lastModifiedBy>Ioana</cp:lastModifiedBy>
  <dcterms:modified xsi:type="dcterms:W3CDTF">2012-05-05T20:09:45Z</dcterms:modified>
  <cp:revision>14</cp:revision>
  <dc:subject/>
  <dc:title>Slide 1</dc:title>
</cp:coreProperties>
</file>